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2E2A-48F5-467B-9F53-C0743009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B255-2457-48ED-86C6-D16CB91C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5B72-C76C-4645-AA0F-C00C1F8A3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1F92-3C4E-4EAA-AE6E-15241E26D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221BF-0B7A-496E-BE08-ED60092B2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FA4D9-D8AA-4069-BC7E-37AFDBB7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B0CBF-0765-44D6-9F86-551A347A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3A4D8-5BFD-49AA-B95E-53707F04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408D1-78BE-453F-89C1-AC25608E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D137E-0ED4-4F90-A700-C8E78E58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44D12-57F5-471A-AF24-C979F4FC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99F8-025D-4E59-B600-815EAB05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6ABBA-21BE-4240-BDAF-2D3460A3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C6944-7725-4E89-8D92-F9922512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C787C-7F3B-421F-89E5-3D3E5E2F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6E77C-6BB2-4647-8B99-9DD8CEB82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75222-D2BA-4BBE-BCCF-853A0E0E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4A03-1BE7-453F-A446-3A1CE0E7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7865-7C40-4AF0-BF21-69D990FC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0B33-B79F-4CEE-B073-99C4FAEA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7FDE-B0A6-42A1-9622-A6CA31CC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A960-1794-41FB-88E7-D43295A9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930D-38EB-4805-9C2F-A6E12F2C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2AC0-30D8-4B63-8B89-117E7C52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FE0C-30F7-4AD3-BC48-0E0DF4AD2F02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8FAE-828B-4544-BA55-1D863A43E33A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915920"/>
            <a:ext cx="86407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Rounded MT Bold"/>
              </a:rPr>
              <a:t>Techniques of morphing to stimulate the teaching with technology</a:t>
            </a:r>
            <a:br>
              <a:rPr sz="3200"/>
            </a:br>
            <a:r>
              <a:rPr b="1" lang="fr-FR" sz="2400" spc="-1" strike="noStrike">
                <a:solidFill>
                  <a:srgbClr val="ffffff"/>
                </a:solidFill>
                <a:latin typeface="Arial Rounded MT Bold"/>
              </a:rPr>
              <a:t>Examples within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Rounded MT Bold"/>
              </a:rPr>
              <a:t>the TI N’Spire environment and Cabri 3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486864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Jean-Jacques Dah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IREM of Toulou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Paul Sabatier University Toulouse Fr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jjdahan@wanadoo.f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6840360" cy="1185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034760" y="334800"/>
            <a:ext cx="211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July 1st-5th, 20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Krems AUST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115920"/>
            <a:ext cx="2195640" cy="1187280"/>
          </a:xfrm>
          <a:prstGeom prst="rect">
            <a:avLst/>
          </a:prstGeom>
          <a:solidFill>
            <a:srgbClr val="ffff99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surface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ith the previous techniqu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000" y="2708280"/>
            <a:ext cx="8964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military perspective in 2D DG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               </a:t>
            </a: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(Cabri 2 Plus and Graphs &amp; Geometry of TI-Nspi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surface pm.fig    08 MORPHING SURFACES.tns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the 3D graphing too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                </a:t>
            </a: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(TI-N’spi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8 MORPHING SURFACE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Fourier sums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3141360"/>
            <a:ext cx="82915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n controlled as an integ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n controlled as a real number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9 MORPHING FOURIER SUM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132000" y="1125360"/>
          <a:ext cx="2592360" cy="108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2000" y="1125360"/>
                    <a:ext cx="259236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delling a floating fla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120400"/>
            <a:ext cx="8229600" cy="44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First modelling with Cabri 3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Flag Cabri 3D.cg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Improving it with the use of the 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0 FLAG MODELLING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771640" y="2924280"/>
            <a:ext cx="324036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Cabri3ActiveDoc1" descr=""/>
          <p:cNvPicPr/>
          <p:nvPr/>
        </p:nvPicPr>
        <p:blipFill>
          <a:blip r:embed="rId2"/>
          <a:stretch/>
        </p:blipFill>
        <p:spPr>
          <a:xfrm>
            <a:off x="1403280" y="476280"/>
            <a:ext cx="6297840" cy="585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5880" y="6324480"/>
            <a:ext cx="68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rphing triangle polygone.cg3       morphing carre carre.cg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77840" y="1771560"/>
            <a:ext cx="78501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ank you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8" name=""/>
          <p:cNvSpPr/>
          <p:nvPr/>
        </p:nvSpPr>
        <p:spPr>
          <a:xfrm>
            <a:off x="2715480" y="5297400"/>
            <a:ext cx="61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jjdahan@wanadoo.f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3907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282600"/>
            <a:ext cx="9144000" cy="6219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560040" y="6524640"/>
            <a:ext cx="144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1 TITLE TIME.t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6868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 Rounded MT Bold"/>
              </a:rPr>
              <a:t>From graphs theory to Cabr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282420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55800" y="6375240"/>
            <a:ext cx="259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Tahoma"/>
              </a:rPr>
              <a:t>THEORIE GRAPHES MINI.fi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CabriGeometreIIPAX1"/>
          <p:cNvGraphicFramePr/>
          <p:nvPr/>
        </p:nvGraphicFramePr>
        <p:xfrm>
          <a:off x="395280" y="1125360"/>
          <a:ext cx="8280360" cy="518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CabriGeometreIIPAX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125360"/>
                    <a:ext cx="828036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Net of a cub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Cabri3ActiveDoc1" descr=""/>
          <p:cNvPicPr/>
          <p:nvPr/>
        </p:nvPicPr>
        <p:blipFill>
          <a:blip r:embed="rId2"/>
          <a:stretch/>
        </p:blipFill>
        <p:spPr>
          <a:xfrm>
            <a:off x="1476360" y="1197000"/>
            <a:ext cx="5832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1=2=3 theorem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Cabri3ActiveDoc1" descr=""/>
          <p:cNvPicPr/>
          <p:nvPr/>
        </p:nvPicPr>
        <p:blipFill>
          <a:blip r:embed="rId2"/>
          <a:stretch/>
        </p:blipFill>
        <p:spPr>
          <a:xfrm>
            <a:off x="1403280" y="1125360"/>
            <a:ext cx="59054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Cabri3ActiveDoc1" descr=""/>
          <p:cNvPicPr/>
          <p:nvPr/>
        </p:nvPicPr>
        <p:blipFill>
          <a:blip r:embed="rId2"/>
          <a:stretch/>
        </p:blipFill>
        <p:spPr>
          <a:xfrm>
            <a:off x="1332000" y="260280"/>
            <a:ext cx="6264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 Rounded MT Bold"/>
              </a:rPr>
              <a:t>Initial techniques </a:t>
            </a:r>
            <a:br>
              <a:rPr sz="4000"/>
            </a:b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(using a special invariant in Cabri construction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2987640"/>
            <a:ext cx="896472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An example to show this property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2 INITIAL IDEA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Morphing segments onto arcs or seg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3 INITIAL TECHNIQUE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with graph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here graphs are squares, circles, astroid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2769840"/>
            <a:ext cx="8964720" cy="34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functions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4 MORPHING CURVES OF FUNCTION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parametric and polar fun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5 circle square astroid param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</a:t>
            </a: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06 morphing square circle polar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number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ith barycentres, dilations, slide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000" y="2914560"/>
            <a:ext cx="8964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1 onto 3 (basic techniqu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2 onto 4 (advanced techniqu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7 MORPHING NUMBER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10:02:56Z</dcterms:created>
  <dc:creator>DAHAN Jean-Jacques</dc:creator>
  <dc:description/>
  <dc:language>en-US</dc:language>
  <cp:lastModifiedBy>DAHAN Jean-Jacques</cp:lastModifiedBy>
  <dcterms:modified xsi:type="dcterms:W3CDTF">2014-09-22T16:34:01Z</dcterms:modified>
  <cp:revision>16</cp:revision>
  <dc:subject/>
  <dc:title>Techniques of morphing to stimulate the teaching with technology Examples within  the TI N’Spire environment and Cabri 3D</dc:title>
</cp:coreProperties>
</file>